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5A8B-B291-4D16-8156-52BB1182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710D-9297-42EE-9E03-7BD81E98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0767-1F71-461F-802E-18E738F6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AE33-D87B-4DF8-8905-1FB8C33A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E94B-1EAE-4E25-B53A-8CF14FFFF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0847-9544-460A-8CA0-45B9A7ED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0195-BCD2-4AC5-845B-995DFFDF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7F15-B5F3-4C35-8839-D681BCC5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0720-60AB-4AFF-8ABF-4408474F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DA0C-1191-4C7A-8B0B-A0363A3E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F03A-A5E0-4025-9F3D-BFE37710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F8E3-B82A-4E12-9886-94DE90FD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560C-5EBD-4A19-A813-450C153B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D3B2-38FA-4E9D-B924-E4F6E9E3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AD3F-ADF0-45F3-8773-7C1D44F1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73D1-0181-40C3-A560-875E6A9E2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2B51-FABA-4BA8-B7AC-EF59403E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7E6D-CD28-4BC8-8029-3B99C8CE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948E-0335-450B-97BB-A2253B35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E346-AEE2-4A2E-87B7-F628ADD4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2AA8-7A57-419B-85AA-C03C9923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657D-2253-45DC-A7B5-7091C477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4F89-9308-4192-AA76-5CD0A558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ED18-840F-4043-A57C-5F252B3F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12B2-4CB0-431A-A6A2-71EEC6F36A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bb5f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9FE9-CD8C-432E-94CB-0B9AA398AC9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698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 </a:t>
            </a:r>
            <a:r>
              <a:rPr b="0" lang="ru-RU" sz="5400" spc="-1" strike="noStrike">
                <a:solidFill>
                  <a:srgbClr val="ffff00"/>
                </a:solidFill>
                <a:latin typeface="Arial Black"/>
              </a:rPr>
              <a:t>Требования к ораторской речи</a:t>
            </a:r>
            <a:endParaRPr b="1" lang="en-US" sz="5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924360" y="2708280"/>
            <a:ext cx="496872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Menuet script"/>
              </a:rPr>
              <a:t>Базалий Р.В. –доцент кафедры ТиМПО, канд.пед.нау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images"/>
          <p:cNvPicPr/>
          <p:nvPr/>
        </p:nvPicPr>
        <p:blipFill>
          <a:blip r:embed="rId1"/>
          <a:stretch/>
        </p:blipFill>
        <p:spPr>
          <a:xfrm>
            <a:off x="1547640" y="4122720"/>
            <a:ext cx="1917720" cy="25527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Arial Black"/>
              </a:rPr>
              <a:t>Основные способы развития        ораторских способностей</a:t>
            </a:r>
            <a:endParaRPr b="1" lang="en-US" sz="40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086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ктика разговора вслу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ерк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ктика перед реальной немногочисленной аудитори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изуализ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иодическое повтор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ктика перед близкими людь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720orator"/>
          <p:cNvPicPr/>
          <p:nvPr/>
        </p:nvPicPr>
        <p:blipFill>
          <a:blip r:embed="rId1"/>
          <a:stretch/>
        </p:blipFill>
        <p:spPr>
          <a:xfrm>
            <a:off x="3635280" y="2627280"/>
            <a:ext cx="5508720" cy="26020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7280" y="0"/>
            <a:ext cx="634716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Контакт с аудиторией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800712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тоянный контакт с аудиторией-ключевая проблема.Если контакта нет,то теряет смысл само выступ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Оратор1"/>
          <p:cNvPicPr/>
          <p:nvPr/>
        </p:nvPicPr>
        <p:blipFill>
          <a:blip r:embed="rId1"/>
          <a:stretch/>
        </p:blipFill>
        <p:spPr>
          <a:xfrm>
            <a:off x="1692360" y="2492280"/>
            <a:ext cx="6121440" cy="40179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244080"/>
            <a:ext cx="8518320" cy="30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Arial Black"/>
              </a:rPr>
              <a:t>« Не всегда говори, что знаешь…но всегда знай, что говоришь..»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Arial Black"/>
              </a:rPr>
              <a:t>                              (с)Клавдий</a:t>
            </a:r>
            <a:endParaRPr b="1" lang="en-US" sz="4000" spc="-1" strike="noStrike">
              <a:solidFill>
                <a:srgbClr val="feec94"/>
              </a:solidFill>
              <a:latin typeface="Arial Black"/>
            </a:endParaRPr>
          </a:p>
        </p:txBody>
      </p:sp>
      <p:pic>
        <p:nvPicPr>
          <p:cNvPr id="131" name="Picture 6" descr="hohmodrom_JAJAJAJAJAJAJAJAJAJAJA"/>
          <p:cNvPicPr/>
          <p:nvPr/>
        </p:nvPicPr>
        <p:blipFill>
          <a:blip r:embed="rId1"/>
          <a:stretch/>
        </p:blipFill>
        <p:spPr>
          <a:xfrm>
            <a:off x="539640" y="2421000"/>
            <a:ext cx="2971800" cy="4286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imagesссс"/>
          <p:cNvPicPr/>
          <p:nvPr/>
        </p:nvPicPr>
        <p:blipFill>
          <a:blip r:embed="rId2"/>
          <a:stretch/>
        </p:blipFill>
        <p:spPr>
          <a:xfrm>
            <a:off x="3851280" y="3537000"/>
            <a:ext cx="4680000" cy="3132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0880" y="-360"/>
            <a:ext cx="838512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Arial Black"/>
              </a:rPr>
              <a:t>Ораторским искусством важно овладеть всем, кто по роду занятий, организует работу, ведет деловые переговоры, воспитывает, учит, оказывает различные услуги</a:t>
            </a:r>
            <a:endParaRPr b="1" lang="en-US" sz="2800" spc="-1" strike="noStrike">
              <a:solidFill>
                <a:srgbClr val="feec94"/>
              </a:solidFill>
              <a:latin typeface="Arial Black"/>
            </a:endParaRPr>
          </a:p>
        </p:txBody>
      </p:sp>
      <p:pic>
        <p:nvPicPr>
          <p:cNvPr id="134" name="Picture 4" descr="title"/>
          <p:cNvPicPr/>
          <p:nvPr/>
        </p:nvPicPr>
        <p:blipFill>
          <a:blip r:embed="rId1"/>
          <a:stretch/>
        </p:blipFill>
        <p:spPr>
          <a:xfrm>
            <a:off x="1763640" y="2565360"/>
            <a:ext cx="5715000" cy="40863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44704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Arial Black"/>
              </a:rPr>
              <a:t>«Красноречие есть искусство покорять умы..»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Arial Black"/>
              </a:rPr>
              <a:t>                                          (с)Платон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feec94"/>
                </a:solidFill>
                <a:latin typeface="Arial Black"/>
              </a:rPr>
              <a:t>«Истинное красноречие- это умение сказать все, что нужно, и не больше, чем нужно..»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Arial Black"/>
              </a:rPr>
              <a:t>                                   (с)Ф.Ларошфуко</a:t>
            </a:r>
            <a:endParaRPr b="1" lang="en-US" sz="3200" spc="-1" strike="noStrike">
              <a:solidFill>
                <a:srgbClr val="feec94"/>
              </a:solidFill>
              <a:latin typeface="Arial Black"/>
            </a:endParaRPr>
          </a:p>
        </p:txBody>
      </p:sp>
      <p:pic>
        <p:nvPicPr>
          <p:cNvPr id="136" name="Picture 4" descr="2kEeiTnTYH4"/>
          <p:cNvPicPr/>
          <p:nvPr/>
        </p:nvPicPr>
        <p:blipFill>
          <a:blip r:embed="rId1"/>
          <a:stretch/>
        </p:blipFill>
        <p:spPr>
          <a:xfrm>
            <a:off x="395280" y="1662120"/>
            <a:ext cx="4681440" cy="26114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7058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Ораторское искусство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искусство публичного выступления с целью убежд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imagesqq"/>
          <p:cNvPicPr/>
          <p:nvPr/>
        </p:nvPicPr>
        <p:blipFill>
          <a:blip r:embed="rId1"/>
          <a:stretch/>
        </p:blipFill>
        <p:spPr>
          <a:xfrm>
            <a:off x="1908000" y="2421000"/>
            <a:ext cx="5328000" cy="41353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244440"/>
            <a:ext cx="765504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Ораторское искусство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141264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гармоничное сочетание риторики, приемов актерского мастерства и психологических тех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8" descr="x_d2bc43f8"/>
          <p:cNvPicPr/>
          <p:nvPr/>
        </p:nvPicPr>
        <p:blipFill>
          <a:blip r:embed="rId1"/>
          <a:stretch/>
        </p:blipFill>
        <p:spPr>
          <a:xfrm>
            <a:off x="1547640" y="2766960"/>
            <a:ext cx="6120000" cy="38815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16000" y="189000"/>
            <a:ext cx="26636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Оратор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920" y="1267920"/>
            <a:ext cx="784872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цо, профессиональ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нимающееся искусств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аснореч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цо,произносящее реч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лашатай чего-нибуд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ловек,обладающ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ром ре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orator_1"/>
          <p:cNvPicPr/>
          <p:nvPr/>
        </p:nvPicPr>
        <p:blipFill>
          <a:blip r:embed="rId1"/>
          <a:stretch/>
        </p:blipFill>
        <p:spPr>
          <a:xfrm>
            <a:off x="5003640" y="1413000"/>
            <a:ext cx="3600720" cy="424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06040" y="0"/>
            <a:ext cx="837396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eec94"/>
                </a:solidFill>
                <a:uFillTx/>
                <a:latin typeface="Arial Black"/>
              </a:rPr>
              <a:t>Ораторское искусство лишь условно называется искусством, в значительной степени- это деятельность, овладеть которой можно,если даже у человека нет для этого особых данных</a:t>
            </a:r>
            <a:endParaRPr b="1" lang="en-US" sz="3200" spc="-1" strike="noStrike">
              <a:solidFill>
                <a:srgbClr val="feec94"/>
              </a:solidFill>
              <a:latin typeface="Arial Black"/>
            </a:endParaRPr>
          </a:p>
        </p:txBody>
      </p:sp>
      <p:pic>
        <p:nvPicPr>
          <p:cNvPr id="111" name="Picture 6" descr="7dfrFgYK0fQ"/>
          <p:cNvPicPr/>
          <p:nvPr/>
        </p:nvPicPr>
        <p:blipFill>
          <a:blip r:embed="rId1"/>
          <a:srcRect l="0" t="0" r="0" b="15345"/>
          <a:stretch/>
        </p:blipFill>
        <p:spPr>
          <a:xfrm>
            <a:off x="971640" y="2779560"/>
            <a:ext cx="7670880" cy="39625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eec94"/>
                </a:solidFill>
                <a:uFillTx/>
                <a:latin typeface="Arial Black"/>
              </a:rPr>
              <a:t>Требования к ораторской речи</a:t>
            </a:r>
            <a:endParaRPr b="1" lang="en-US" sz="40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280" y="1398600"/>
            <a:ext cx="8496360" cy="19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Чистота»   «Уместность» «Логичность»  «Точность» «Образность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Богатство речи»         «Эмоциональность»        «Выразительность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5" descr="Оратор"/>
          <p:cNvPicPr/>
          <p:nvPr/>
        </p:nvPicPr>
        <p:blipFill>
          <a:blip r:embed="rId1"/>
          <a:stretch/>
        </p:blipFill>
        <p:spPr>
          <a:xfrm>
            <a:off x="684360" y="2205000"/>
            <a:ext cx="8127720" cy="36194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91712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Три способа выступления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4869000"/>
            <a:ext cx="8007480" cy="122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ение – речь официального содерж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ние в момент произнес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произведение по памя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Ораторское искусство 6"/>
          <p:cNvPicPr/>
          <p:nvPr/>
        </p:nvPicPr>
        <p:blipFill>
          <a:blip r:embed="rId1"/>
          <a:stretch/>
        </p:blipFill>
        <p:spPr>
          <a:xfrm>
            <a:off x="2484360" y="1268280"/>
            <a:ext cx="3816360" cy="32911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79640" y="189000"/>
            <a:ext cx="489600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Arial Black"/>
              </a:rPr>
              <a:t>Ораторская речь</a:t>
            </a:r>
            <a:endParaRPr b="1" lang="en-US" sz="40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91064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д монологической речи, употребительной в ситуации, когда говорящий обращается к многочисленной аудитории с целью вну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XbearqJ0QSQ"/>
          <p:cNvPicPr/>
          <p:nvPr/>
        </p:nvPicPr>
        <p:blipFill>
          <a:blip r:embed="rId1"/>
          <a:stretch/>
        </p:blipFill>
        <p:spPr>
          <a:xfrm>
            <a:off x="1692360" y="3484440"/>
            <a:ext cx="6048360" cy="33735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Виды ораторского искусства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51280" y="1773000"/>
            <a:ext cx="3182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циально-политическ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адемическ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удеб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циально-бытов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пломатическ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ен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ргов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алогическ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a_82904556"/>
          <p:cNvPicPr/>
          <p:nvPr/>
        </p:nvPicPr>
        <p:blipFill>
          <a:blip r:embed="rId1"/>
          <a:stretch/>
        </p:blipFill>
        <p:spPr>
          <a:xfrm>
            <a:off x="826920" y="1484280"/>
            <a:ext cx="4214880" cy="50576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6T09:49:59Z</dcterms:created>
  <dc:creator>Катерина</dc:creator>
  <dc:description/>
  <dc:language>en-US</dc:language>
  <cp:lastModifiedBy>Базалий Раиса Викторовна</cp:lastModifiedBy>
  <dcterms:modified xsi:type="dcterms:W3CDTF">2015-12-10T06:36:05Z</dcterms:modified>
  <cp:revision>3</cp:revision>
  <dc:subject/>
  <dc:title>       Презентация на тему</dc:title>
</cp:coreProperties>
</file>